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6.jpeg" ContentType="image/jpeg"/>
  <Override PartName="/ppt/media/image7.jpeg" ContentType="image/jpeg"/>
  <Override PartName="/ppt/media/image10.wmf" ContentType="image/x-wmf"/>
  <Override PartName="/ppt/media/image11.png" ContentType="image/pn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6381720"/>
            <a:ext cx="9144000" cy="47628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6219000" y="6383160"/>
            <a:ext cx="27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Repair Optimization Support Tr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795000" y="6621480"/>
            <a:ext cx="1448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Times New Roman"/>
              </a:rPr>
              <a:t>Level 1&amp;2 , Rev.1.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4"/>
          <a:stretch/>
        </p:blipFill>
        <p:spPr>
          <a:xfrm>
            <a:off x="114480" y="6429240"/>
            <a:ext cx="399960" cy="40032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2480" y="6491160"/>
            <a:ext cx="123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lest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804960" y="135000"/>
            <a:ext cx="399960" cy="73008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hyperlink" Target="http://www.motorola.com/" TargetMode="External"/><Relationship Id="rId4" Type="http://schemas.openxmlformats.org/officeDocument/2006/relationships/hyperlink" Target="http://www.motorola.com/" TargetMode="External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.motorola.com/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my.motorola.com/" TargetMode="External"/><Relationship Id="rId2" Type="http://schemas.openxmlformats.org/officeDocument/2006/relationships/hyperlink" Target="https://my.motorola.com/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online-shop.ams-fl.com/" TargetMode="External"/><Relationship Id="rId2" Type="http://schemas.openxmlformats.org/officeDocument/2006/relationships/hyperlink" Target="http://www.online-shop.ams-fl.com/" TargetMode="External"/><Relationship Id="rId3" Type="http://schemas.openxmlformats.org/officeDocument/2006/relationships/hyperlink" Target="http://www.online-shop.ams-fl.com/" TargetMode="External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0" t="10169" r="46538" b="0"/>
          <a:stretch/>
        </p:blipFill>
        <p:spPr>
          <a:xfrm>
            <a:off x="457200" y="1382760"/>
            <a:ext cx="4114800" cy="47131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57120" y="2917800"/>
            <a:ext cx="3886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ilest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 rot="601200">
            <a:off x="4854600" y="1068120"/>
            <a:ext cx="2757600" cy="50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6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Google Syn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ata Sync acces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rom phone, open Menu&gt;Settings&gt; Google synchroniz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oose if you want Auto-sync en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heck each application you would like to syn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ll synchronization is done over-the-a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1066680"/>
            <a:ext cx="695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ync Gmail, Calendar, and Contacts from Google to my 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38680" y="1600200"/>
            <a:ext cx="301968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otorola Media Lin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6629400" cy="4016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447920" y="1219320"/>
            <a:ext cx="571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ansfer &amp; Sync Photos, Videos, Music with Motorola Media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8305920" y="2438280"/>
            <a:ext cx="685800" cy="30492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001000" y="2057400"/>
            <a:ext cx="457200" cy="38088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152280" y="2209680"/>
            <a:ext cx="1676520" cy="138744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447920" y="1600200"/>
            <a:ext cx="266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lect USB drive option from phone when data cable is connec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3200400"/>
            <a:ext cx="914400" cy="45720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914400" y="1981080"/>
            <a:ext cx="1371600" cy="1295640"/>
          </a:xfrm>
          <a:prstGeom prst="line">
            <a:avLst/>
          </a:prstGeom>
          <a:ln w="28440">
            <a:solidFill>
              <a:srgbClr val="ff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315200" y="182880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One-click Syn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9360" y="6172200"/>
            <a:ext cx="3600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Motorola Media Link free download available at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3"/>
              </a:rPr>
              <a:t>http://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4"/>
              </a:rPr>
              <a:t>motorola.com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lease use the Dis-Assembl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Or the Dis-Assembly Video‘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vailable on </a:t>
            </a:r>
            <a:r>
              <a:rPr b="0" lang="de-DE" sz="3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My.Motorola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57200" y="648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Dis-Assemb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1400" y="3038400"/>
            <a:ext cx="179568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noAutofit/>
          </a:bodyPr>
          <a:p>
            <a:pPr algn="r">
              <a:spcAft>
                <a:spcPts val="125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25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25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25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25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25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25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Aft>
                <a:spcPts val="125"/>
              </a:spcAft>
              <a:tabLst>
                <a:tab algn="l" pos="0"/>
                <a:tab algn="l" pos="957240"/>
                <a:tab algn="l" pos="1914480"/>
                <a:tab algn="l" pos="2871720"/>
                <a:tab algn="l" pos="3828960"/>
                <a:tab algn="l" pos="4786200"/>
                <a:tab algn="l" pos="5743440"/>
                <a:tab algn="l" pos="6700680"/>
                <a:tab algn="l" pos="7658280"/>
                <a:tab algn="l" pos="8615520"/>
                <a:tab algn="l" pos="9572760"/>
                <a:tab algn="l" pos="105300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049480" y="57240"/>
            <a:ext cx="37447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Generic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82480" y="1114560"/>
            <a:ext cx="7728120" cy="530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Name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lesto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ufacturer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orol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m Factor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lide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nds/Modes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SM 850, 900, 1800, 1900 + UMTS 2100, 1900, 850 + G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SM 850, 900, 1800, 1900 + UMTS 2100, 900 + GP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 Internal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Gb (512MB) Nand Flash + 2Gb (256MB) mobile DDRa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mory External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 S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32G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splay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7” WVGA (480x854) capacitive Touch screen</a:t>
            </a:r>
            <a:r>
              <a:rPr b="0" lang="en-US" sz="2000" spc="-1" strike="noStrike">
                <a:solidFill>
                  <a:srgbClr val="808080"/>
                </a:solidFill>
                <a:latin typeface="Verdana"/>
                <a:ea typeface="宋体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ntenna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ternal GSM /UMTS + internal UMTS Diversity + GPS+ BT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T/SB Tim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lk Time (in minutes): 390min GSM, 290min 3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ndby Time (in hours): 350hrs GSM, 380hrs 3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 Sync. SW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orola Media Li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ilable at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torola Stores www.motorola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rvice SW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D Net Conn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ilable a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My.Motorola.com</a:t>
            </a:r>
            <a:r>
              <a:rPr b="1" lang="en-US" sz="2000" spc="-1" strike="noStrike" u="sng">
                <a:solidFill>
                  <a:srgbClr val="009999"/>
                </a:solidFill>
                <a:uFillTx/>
                <a:latin typeface="Verdana"/>
                <a:hlinkClick r:id="rId2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049480" y="57240"/>
            <a:ext cx="37447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Generic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82480" y="1231920"/>
            <a:ext cx="772812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nectivity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cro USB Cab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Cable avail. at: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online-shop.ams-f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attery Eliminator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P6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vailable at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line-shop.ams-f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lex Flash File Typ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F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 SW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SD Net Connec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ired Tools: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rque 5, JIS#00 screw driver, heat gun, Tweezers, Black Stic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dat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air Fixtur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ain Lens Press, Keypad Press, EL panel mylar alignment and pr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p Press, Alignment Fixture S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ools available at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online-shop.ams-fl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ow to update SW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rt up RSD Net connected, power up Moblie and connect via Mic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B cable, start Firmware update process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2303640" y="106200"/>
            <a:ext cx="416052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Key Selling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0400" y="1459080"/>
            <a:ext cx="79632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A “push” based service which extends the experience, always-on social networking to sync up with friends instantly. Be the first to know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Stay in the loop. Texts, Facebook updates, emails, IMs and phone calls are pushed right to you. See all your conversations in one place &amp; quickly respond on a full QWERTY keyboard and navigate with power of tou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reat Web to find what you want fast. Search, full HTML brow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720x480 30fps, Video capture and playbac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igh-Speed - YouTube delivered over HSDPA or Wi-F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Google Maps enabled with enhanced GPS;  All at your fingertips on a touch 3.7” WVGA screen(480x857)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61960" y="378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Features and Enabl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10"/>
          <p:cNvSpPr/>
          <p:nvPr/>
        </p:nvSpPr>
        <p:spPr>
          <a:xfrm>
            <a:off x="181080" y="1378080"/>
            <a:ext cx="862020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KEY FEATURES AND ENABL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rowse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ndroid Webkit / 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essaging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MS, MMS, IM, Email (POP, IMAP, IMAP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udio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IDI, MP3, AAC, AAC+, eAAC+, WAV, WMA v9, WMA v1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Memory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4/2Gb system, 8GB w/ preloaded MicroSDH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Phone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Dual mic noise suppression (crystal Talk 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Video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720x480 30fps, Video capture and playback, H.264, MPEG4, WM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amera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igh Performance 5 MP AF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Other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ccelerometer, magnetometer, touch display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nectivity: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Bluetooth 2.1+EDR w/A2DP, USB2.0 HS, WIFI 802.11b/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Arial"/>
                <a:ea typeface="宋体"/>
              </a:rPr>
              <a:t>Key Services &amp;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Unique  Android UI, centered around your favori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Social Life Messaging Center –  grouping of calls, conversation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(IM, SMS, Email…..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Connected services – always connected and up to date social network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9480"/>
                <a:tab algn="l" pos="2298600"/>
                <a:tab algn="l" pos="3448080"/>
                <a:tab algn="l" pos="4597560"/>
                <a:tab algn="l" pos="5746680"/>
                <a:tab algn="l" pos="6896160"/>
                <a:tab algn="l" pos="8045280"/>
                <a:tab algn="l" pos="9194760"/>
                <a:tab algn="l" pos="10344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and news feeds as well as S/W upda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2293200" y="47520"/>
            <a:ext cx="3301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oduct vari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-180000" y="1484280"/>
            <a:ext cx="3734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EMEA, P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-Band G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MTS 900, 2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2880" y="1484280"/>
            <a:ext cx="4304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Latin Ame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-Band GS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UMTS 850,1900, 2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3520" y="2647800"/>
            <a:ext cx="7962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19200" y="3032280"/>
            <a:ext cx="3495600" cy="27111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863960" y="3029040"/>
            <a:ext cx="3495960" cy="27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905040" y="2341440"/>
            <a:ext cx="3636720" cy="282096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044800" y="1365120"/>
            <a:ext cx="1751040" cy="503280"/>
          </a:xfrm>
          <a:prstGeom prst="wedgeRoundRectCallout">
            <a:avLst>
              <a:gd name="adj1" fmla="val -10199"/>
              <a:gd name="adj2" fmla="val 3282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3,7” Touch Srceen Displ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82520" y="1365120"/>
            <a:ext cx="1655640" cy="503280"/>
          </a:xfrm>
          <a:prstGeom prst="wedgeRoundRectCallout">
            <a:avLst>
              <a:gd name="adj1" fmla="val 4074"/>
              <a:gd name="adj2" fmla="val 32444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Earpiece Spea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01960" y="38160"/>
            <a:ext cx="563076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v-SE" sz="2800" spc="-1" strike="noStrike">
                <a:solidFill>
                  <a:srgbClr val="ffffff"/>
                </a:solidFill>
                <a:latin typeface="Arial"/>
              </a:rPr>
              <a:t>Mechanical Design Over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166920" y="5743440"/>
            <a:ext cx="1503360" cy="503280"/>
          </a:xfrm>
          <a:prstGeom prst="wedgeRoundRectCallout">
            <a:avLst>
              <a:gd name="adj1" fmla="val 25712"/>
              <a:gd name="adj2" fmla="val -367666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Microph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3920" y="5743440"/>
            <a:ext cx="1503360" cy="503280"/>
          </a:xfrm>
          <a:prstGeom prst="wedgeRoundRectCallout">
            <a:avLst>
              <a:gd name="adj1" fmla="val 57393"/>
              <a:gd name="adj2" fmla="val -29574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Querty</a:t>
            </a:r>
            <a:br>
              <a:rPr sz="1400"/>
            </a:b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Key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4781520" y="2054160"/>
            <a:ext cx="2286000" cy="4156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947960" y="5743440"/>
            <a:ext cx="1008000" cy="503280"/>
          </a:xfrm>
          <a:prstGeom prst="wedgeRoundRectCallout">
            <a:avLst>
              <a:gd name="adj1" fmla="val 145120"/>
              <a:gd name="adj2" fmla="val -29195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Na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67320" y="885960"/>
            <a:ext cx="1503360" cy="503280"/>
          </a:xfrm>
          <a:prstGeom prst="wedgeRoundRectCallout">
            <a:avLst>
              <a:gd name="adj1" fmla="val -10402"/>
              <a:gd name="adj2" fmla="val 179337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ON/OFF Ke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300720" y="885960"/>
            <a:ext cx="1503360" cy="503280"/>
          </a:xfrm>
          <a:prstGeom prst="wedgeRoundRectCallout">
            <a:avLst>
              <a:gd name="adj1" fmla="val -99736"/>
              <a:gd name="adj2" fmla="val 1888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3.5m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Headset Con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415280" y="1733400"/>
            <a:ext cx="1503360" cy="503280"/>
          </a:xfrm>
          <a:prstGeom prst="wedgeRoundRectCallout">
            <a:avLst>
              <a:gd name="adj1" fmla="val -196675"/>
              <a:gd name="adj2" fmla="val 11687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5MP A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Cam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415280" y="2390760"/>
            <a:ext cx="1503360" cy="503280"/>
          </a:xfrm>
          <a:prstGeom prst="wedgeRoundRectCallout">
            <a:avLst>
              <a:gd name="adj1" fmla="val -194138"/>
              <a:gd name="adj2" fmla="val 3927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Cam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LED Fla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415280" y="3095640"/>
            <a:ext cx="1503360" cy="503280"/>
          </a:xfrm>
          <a:prstGeom prst="wedgeRoundRectCallout">
            <a:avLst>
              <a:gd name="adj1" fmla="val -81995"/>
              <a:gd name="adj2" fmla="val 899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Mic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US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415280" y="3848040"/>
            <a:ext cx="1503360" cy="503280"/>
          </a:xfrm>
          <a:prstGeom prst="wedgeRoundRectCallout">
            <a:avLst>
              <a:gd name="adj1" fmla="val -133949"/>
              <a:gd name="adj2" fmla="val -2318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Batt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Do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415280" y="4667400"/>
            <a:ext cx="1503360" cy="502920"/>
          </a:xfrm>
          <a:prstGeom prst="wedgeRoundRectCallout">
            <a:avLst>
              <a:gd name="adj1" fmla="val -135217"/>
              <a:gd name="adj2" fmla="val 154731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Arial"/>
              </a:rPr>
              <a:t>Speak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274120" y="5724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Key Access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695600" y="2481120"/>
            <a:ext cx="5715000" cy="23148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2952360" y="1878120"/>
            <a:ext cx="289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</a:rPr>
              <a:t>Desktop Docking Sta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57160" y="-11520"/>
            <a:ext cx="822960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evel 2 Android Repair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3962520"/>
            <a:ext cx="1528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iage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iage all incoming units to identify iss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371600" y="2209680"/>
            <a:ext cx="1663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W Iss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rform next steps if software issue is ident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295280" y="5257800"/>
            <a:ext cx="17892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HW Iss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rform next steps if hardware issue is identifi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733920" y="2133720"/>
            <a:ext cx="21333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Master Cl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rform master clear and determine if issue is resol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note, user content will be lo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91120" y="5715000"/>
            <a:ext cx="17888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2 HW Iss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pair mechanical issues as nee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51055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3 HW Iss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72200" y="2133720"/>
            <a:ext cx="14875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W Upd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rform software update and determine if issue is resolv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5791320"/>
            <a:ext cx="15289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i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iage all HW re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772400" y="3505320"/>
            <a:ext cx="1295280" cy="9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turn to Custom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f no more issues identified, return to custom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1" name=""/>
          <p:cNvCxnSpPr>
            <a:stCxn id="82" idx="0"/>
            <a:endCxn id="83" idx="1"/>
          </p:cNvCxnSpPr>
          <p:nvPr/>
        </p:nvCxnSpPr>
        <p:spPr>
          <a:xfrm flipH="1" flipV="1" rot="5400000">
            <a:off x="343800" y="2934720"/>
            <a:ext cx="1448640" cy="607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2" idx="2"/>
            <a:endCxn id="84" idx="1"/>
          </p:cNvCxnSpPr>
          <p:nvPr/>
        </p:nvCxnSpPr>
        <p:spPr>
          <a:xfrm flipH="1" rot="16200000">
            <a:off x="533880" y="4802040"/>
            <a:ext cx="991440" cy="5310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4" idx="3"/>
            <a:endCxn id="86" idx="1"/>
          </p:cNvCxnSpPr>
          <p:nvPr/>
        </p:nvCxnSpPr>
        <p:spPr>
          <a:xfrm>
            <a:off x="3084480" y="5562720"/>
            <a:ext cx="1107360" cy="457920"/>
          </a:xfrm>
          <a:prstGeom prst="bentConnector3">
            <a:avLst>
              <a:gd name="adj1" fmla="val 615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4" name=""/>
          <p:cNvCxnSpPr>
            <a:stCxn id="84" idx="3"/>
            <a:endCxn id="87" idx="1"/>
          </p:cNvCxnSpPr>
          <p:nvPr/>
        </p:nvCxnSpPr>
        <p:spPr>
          <a:xfrm flipV="1">
            <a:off x="3084120" y="5257080"/>
            <a:ext cx="1335960" cy="305640"/>
          </a:xfrm>
          <a:prstGeom prst="bentConnector3">
            <a:avLst>
              <a:gd name="adj1" fmla="val 4991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5" name=""/>
          <p:cNvCxnSpPr>
            <a:stCxn id="83" idx="3"/>
            <a:endCxn id="85" idx="1"/>
          </p:cNvCxnSpPr>
          <p:nvPr/>
        </p:nvCxnSpPr>
        <p:spPr>
          <a:xfrm>
            <a:off x="3034800" y="2514240"/>
            <a:ext cx="699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85" idx="3"/>
            <a:endCxn id="88" idx="1"/>
          </p:cNvCxnSpPr>
          <p:nvPr/>
        </p:nvCxnSpPr>
        <p:spPr>
          <a:xfrm>
            <a:off x="5866920" y="2514240"/>
            <a:ext cx="3056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7" name=""/>
          <p:cNvCxnSpPr>
            <a:stCxn id="86" idx="3"/>
            <a:endCxn id="89" idx="1"/>
          </p:cNvCxnSpPr>
          <p:nvPr/>
        </p:nvCxnSpPr>
        <p:spPr>
          <a:xfrm>
            <a:off x="5979600" y="6019560"/>
            <a:ext cx="4215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8" name=""/>
          <p:cNvCxnSpPr>
            <a:stCxn id="89" idx="3"/>
            <a:endCxn id="90" idx="2"/>
          </p:cNvCxnSpPr>
          <p:nvPr/>
        </p:nvCxnSpPr>
        <p:spPr>
          <a:xfrm flipV="1">
            <a:off x="7929720" y="4479480"/>
            <a:ext cx="491040" cy="15408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88" idx="3"/>
            <a:endCxn id="100" idx="0"/>
          </p:cNvCxnSpPr>
          <p:nvPr/>
        </p:nvCxnSpPr>
        <p:spPr>
          <a:xfrm>
            <a:off x="7659720" y="2514240"/>
            <a:ext cx="761040" cy="3056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5" idx="0"/>
            <a:endCxn id="100" idx="0"/>
          </p:cNvCxnSpPr>
          <p:nvPr/>
        </p:nvCxnSpPr>
        <p:spPr>
          <a:xfrm flipH="1" rot="16200000">
            <a:off x="6267240" y="665640"/>
            <a:ext cx="686520" cy="3620160"/>
          </a:xfrm>
          <a:prstGeom prst="bentConnector3">
            <a:avLst>
              <a:gd name="adj1" fmla="val -3331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2" name=""/>
          <p:cNvSpPr/>
          <p:nvPr/>
        </p:nvSpPr>
        <p:spPr>
          <a:xfrm>
            <a:off x="5715360" y="1752480"/>
            <a:ext cx="915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if issue resolv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62920" y="1905120"/>
            <a:ext cx="393480" cy="2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2514600"/>
            <a:ext cx="38088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65800" y="4191120"/>
            <a:ext cx="1295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3 SW Iss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"/>
          <p:cNvCxnSpPr>
            <a:stCxn id="88" idx="2"/>
            <a:endCxn id="105" idx="0"/>
          </p:cNvCxnSpPr>
          <p:nvPr/>
        </p:nvCxnSpPr>
        <p:spPr>
          <a:xfrm rot="5400000">
            <a:off x="6266520" y="3541320"/>
            <a:ext cx="1296360" cy="39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0" y="957240"/>
            <a:ext cx="891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Android is an open-source operating system which will allow users to download many 3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rd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party software applications to Motorola Android mobile phones. Due to this support, it’s necessary to update the repair process as indicated in this flow diagra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00200" y="2971800"/>
            <a:ext cx="35812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er Content Backup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IM information done over-the–air by user (Google Syn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edia information done with Media Link by user (Motorol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>
            <a:stCxn id="83" idx="3"/>
            <a:endCxn id="108" idx="0"/>
          </p:cNvCxnSpPr>
          <p:nvPr/>
        </p:nvCxnSpPr>
        <p:spPr>
          <a:xfrm>
            <a:off x="3035160" y="2514600"/>
            <a:ext cx="356400" cy="4579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0" name=""/>
          <p:cNvSpPr/>
          <p:nvPr/>
        </p:nvSpPr>
        <p:spPr>
          <a:xfrm>
            <a:off x="4320" y="6019920"/>
            <a:ext cx="3461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Perform BLUR login for BLUR enabled phones before Triag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  <a:ea typeface="Arial"/>
              </a:rPr>
              <a:t>Recommend user to backup/sync user content before bringing to repai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76520" y="3962520"/>
            <a:ext cx="1447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NT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erform RF Go no Go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" name=""/>
          <p:cNvCxnSpPr>
            <a:stCxn id="82" idx="3"/>
            <a:endCxn id="111" idx="1"/>
          </p:cNvCxnSpPr>
          <p:nvPr/>
        </p:nvCxnSpPr>
        <p:spPr>
          <a:xfrm>
            <a:off x="1528920" y="4266720"/>
            <a:ext cx="1483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4419720" y="4724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3 RF iss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Cloud"/>
          <p:cNvSpPr/>
          <p:nvPr/>
        </p:nvSpPr>
        <p:spPr>
          <a:xfrm>
            <a:off x="5638680" y="4495680"/>
            <a:ext cx="2286000" cy="106704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Forward to L3/L4 MRSC for further repai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" name=""/>
          <p:cNvCxnSpPr>
            <a:stCxn id="111" idx="3"/>
            <a:endCxn id="113" idx="1"/>
          </p:cNvCxnSpPr>
          <p:nvPr/>
        </p:nvCxnSpPr>
        <p:spPr>
          <a:xfrm>
            <a:off x="3123720" y="4267080"/>
            <a:ext cx="1296360" cy="61056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 rot="16200000">
            <a:off x="6785280" y="3851280"/>
            <a:ext cx="329400" cy="30492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2565" y="145"/>
                </a:moveTo>
                <a:arcTo wR="10800" hR="10800" stAng="-4835521" swAng="9985105"/>
                <a:lnTo>
                  <a:pt x="10800" y="10800"/>
                </a:lnTo>
                <a:close/>
              </a:path>
              <a:path fill="none" w="21600" h="21600">
                <a:moveTo>
                  <a:pt x="12565" y="145"/>
                </a:moveTo>
                <a:arcTo wR="10800" hR="10800" stAng="-4835521" swAng="9985105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" name=""/>
          <p:cNvCxnSpPr>
            <a:stCxn id="111" idx="3"/>
            <a:endCxn id="116" idx="0"/>
          </p:cNvCxnSpPr>
          <p:nvPr/>
        </p:nvCxnSpPr>
        <p:spPr>
          <a:xfrm flipV="1">
            <a:off x="3123720" y="3975840"/>
            <a:ext cx="3675960" cy="291240"/>
          </a:xfrm>
          <a:prstGeom prst="bentConnector3">
            <a:avLst>
              <a:gd name="adj1" fmla="val 17571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8" name=""/>
          <p:cNvCxnSpPr>
            <a:stCxn id="116" idx="1"/>
            <a:endCxn id="90" idx="1"/>
          </p:cNvCxnSpPr>
          <p:nvPr/>
        </p:nvCxnSpPr>
        <p:spPr>
          <a:xfrm>
            <a:off x="7102080" y="3992040"/>
            <a:ext cx="67068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0" name=""/>
          <p:cNvSpPr/>
          <p:nvPr/>
        </p:nvSpPr>
        <p:spPr>
          <a:xfrm>
            <a:off x="7696080" y="2819520"/>
            <a:ext cx="144792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ri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iage all SW repai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00" idx="2"/>
            <a:endCxn id="90" idx="0"/>
          </p:cNvCxnSpPr>
          <p:nvPr/>
        </p:nvCxnSpPr>
        <p:spPr>
          <a:xfrm>
            <a:off x="8419680" y="3276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11T11:58:59Z</dcterms:created>
  <dc:creator>wfab610</dc:creator>
  <dc:description/>
  <dc:language>en-US</dc:language>
  <cp:lastModifiedBy>wfab610</cp:lastModifiedBy>
  <dcterms:modified xsi:type="dcterms:W3CDTF">2010-01-20T07:09:29Z</dcterms:modified>
  <cp:revision>107</cp:revision>
  <dc:subject/>
  <dc:title>Folie 1</dc:title>
</cp:coreProperties>
</file>